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6EF4-93A4-41BA-9718-AD40C6B244EB}" type="slidenum"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KSI : ULASAN GURU TERHADAP KEPENTINGAN WATAK DALAM PENULIS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H DISKRIPSI WATAK YANG CANT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RU JELASKAN KEPADA PELAJAR BEBERAPA ASPEK YANG BOLEH DIBERI PERHATIAN SEMASA MENDISKRIPSIKAN SESEORANG WAT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RIPSI WATAK YANG KURANG CANT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RIPSI FIZIKAL SEORANG GANG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BEA-4BCA-40BD-9C4D-EEC42C31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5600" y="427536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5453-B290-4049-B3E3-7F5A532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404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F76-F7EF-4F52-9802-667CCB52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236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9948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8560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236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9948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2E0-CC06-404F-B887-10AD2296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2EDF-21AD-4CE0-9F5B-1A4CCA64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85600" y="1911240"/>
            <a:ext cx="6378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0A5B-589E-4DEF-BFB8-6EEC16CE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637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5B11-F256-4606-B70C-FCE758AB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826D-037C-4B38-AFB7-E04428A5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D4C8-21CA-4BC7-BA68-2C6D339D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85600" y="585360"/>
            <a:ext cx="6378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A2D9-5A4E-41C5-B216-98A319B7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C57C-06E8-4C68-991F-73BAF4F8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85600" y="1911240"/>
            <a:ext cx="6378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653-4C14-495B-995E-2B5988BA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5404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EA9B-0898-4DC6-B5C5-50D9C706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A122-9908-49D5-9054-99738D6D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85600" y="427536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E0D3-9CF3-4F3D-BCB8-FED7D51A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5404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64BC-65B6-4504-979D-1DC0D398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4236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9948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8560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4236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9948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C80D-966D-4E5E-B51C-DB09861C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637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AE4-E961-44B3-9268-73531314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38E-C9DD-4836-B270-BA0F2E18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F49-C4BC-4949-8931-07A70BBE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85600" y="585360"/>
            <a:ext cx="6378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CEF-F25D-4F87-A8D7-2B8D342A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17F-48EE-4090-B0B4-EC61DD2D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404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13F-FFA9-46A5-86A3-4AE4837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898-1BAB-463E-883D-FD19EA80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85600" y="1911240"/>
            <a:ext cx="637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921-7E04-403A-B44F-14DAA2A84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E3C2-D6A4-4FD4-BB7E-5DD1DE225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71520" y="1473120"/>
            <a:ext cx="8551800" cy="40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Kepentingan watak dalam cerita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4840" y="-360"/>
            <a:ext cx="8612280" cy="114300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ngapakah watak penting dalam penulis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080" y="1395360"/>
            <a:ext cx="8666280" cy="515304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lam penulisan, watak memainkan peranan utama kerana ia merupakan tumpuan dan tarikan dalam sesuatu ceri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ffffff"/>
                </a:solidFill>
                <a:latin typeface="Arial"/>
              </a:rPr>
              <a:t>Menyampaikan jalan cerita pengarang lebih jelas menerusi perwatakan wata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ak yang cantik dan istimewa dapat menarik perhatian pemba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96920"/>
            <a:ext cx="9064800" cy="62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kripsi fizikal watak akan da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hidupkan cerita </a:t>
            </a:r>
            <a:r>
              <a:rPr b="0" lang="en-SG" sz="3200" spc="-1" strike="noStrike">
                <a:solidFill>
                  <a:srgbClr val="ffffff"/>
                </a:solidFill>
                <a:latin typeface="Arial"/>
              </a:rPr>
              <a:t>dengan lebih berupa reali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Arial"/>
              </a:rPr>
              <a:t>Mewujudkan konflik dengan watak 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un tidak semestinya diskripsi sesuatu watak hanya tertumpu kepada kecantikkan saha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am penghasilan penulisan, kita harus bijak mendiskripsikan ciri-ciri fizikal watak supaya para pembaca dapat membayangkan rupa watak tersebu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2680" y="431280"/>
            <a:ext cx="8611920" cy="114300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3040" y="1642680"/>
            <a:ext cx="8369280" cy="493092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Wajahnya cantik ibarat kacukan Ar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Melayu. Dahinya licin. Matanya bundar 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bercahaya dilengkap dengan kening y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lebat bagai diukir. Bibirnya keme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Merahan biarpun tanpa dipalit gincu. Itul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Insyirah, seorang gadis yang pernah 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gelar sahab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2680" y="431280"/>
            <a:ext cx="8611920" cy="114300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5600" y="1910880"/>
            <a:ext cx="8539200" cy="494676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idak jauh dari situ, terduduk seorang lelaki muda, kira-kira 25 tahun, berbadan tegap dan berkulit coklat kehitaman. Dari jauh, kelihatan seakan kacak. Namun, sayang, indah khabar dari rupa. Bintik-yang masih kemerah-merahan memenuhi hampir seluruh mukanya. Di sana-sini, kesan kudis dan kelecuran yang sudah kehitaman, Matanya kelihatan kuyu. Kepiluan jelas tergambar daripada renungan matanya. Memang benar, rupa tidak kekal, dia berkata sendirian dari benak hati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2680" y="431280"/>
            <a:ext cx="8611920" cy="114300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38000"/>
            <a:ext cx="8539200" cy="494676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Tiga aksara dalam binatang bahasa Cina meny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di lengan kananku. Di belakang badanku..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tengah dadaku..Tatu tatu kemegahan terukit 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sana-sini. Kedua telingaku berlubang-luba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Bahkan hidup, lidah malahan lubang pusatku ju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dihiasi dengan aksesori pelbagai bentuk dan rup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2680" y="431280"/>
            <a:ext cx="8611920" cy="114300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oh Frasa/Perkataan yang dapat digunakan untuk mendiskripsikan wat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5600" y="1910880"/>
            <a:ext cx="8539200" cy="494676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ki yang tempang dan jalan terinjit-inj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ungan manja dan menggoda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it yang berbintik-bintik panau dan kudis yang terkopek-kop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ung mancung bak selud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wajah bengis dan menggerun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pakaian compang-cam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20:12:11Z</dcterms:created>
  <dc:creator>shakz</dc:creator>
  <dc:description/>
  <dc:language>en-US</dc:language>
  <cp:lastModifiedBy>nurashikin</cp:lastModifiedBy>
  <dcterms:modified xsi:type="dcterms:W3CDTF">2010-02-22T03:17:31Z</dcterms:modified>
  <cp:revision>3</cp:revision>
  <dc:subject/>
  <dc:title>Slide 1</dc:title>
</cp:coreProperties>
</file>